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2A629-4380-468D-9EB1-DA7CB5E7EF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Chan, Sam and E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last Furn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a blast furnace is to reduce and convert iron oxides into liquid iron called "hot metal"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ast furnace is a huge, steel stack lined with refractory bri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coke and limestone are put into the top, and preheated air is blown into the bot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es Iron have to be extracted in a Blast Furnace?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an be extracted by the blast furnace because it can be displaced by carb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more efficient method than electrolysis because it is more cost eff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substances are needed to enable to extraction of iron from its ore. The combined mixture is called the charg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ore, haematite - often contains sand with iron oxide, Fe2O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stone (calcium carbon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ke - mainly carb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rge is placed a giant chimney called a blast furnace. The blast furnace is around 30 metres high and lined with fireproof bricks. Hot air is blasted through the botto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the air reacts with coke to give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s) + O 2(g)  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breaks down to form carbon di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(s)  CO2 (g) + CaO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produced in 1 + 2 react with more coke to produce carbon monoxi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2(g) + C(s)  2CO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reactions take place before the iron is finally produced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 monoxide reduces the iron in the ore to give molten ir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CO(g) + Fe2O3(s)  2Fe(l) + 3CO2(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mestone from 2, reacts with the sand to form slag (calcium silicat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O(s) + SiO(s)  CaSiO3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the slag and iron are drained from the bottom of the furn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lag is mainly used to build roa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n whilst molten is poured into moulds and left to solidify - this is called cast iron and is used to make railings and storage tan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t of the iron is used to make ste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k you for watching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67C9-D5BE-45EA-A171-78EB5F9E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7526-671E-4D5C-8731-E00FAD34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CD88-9CE2-41A7-A896-6767ABE5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23EA-4F13-4EEB-9358-504ED1391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4077-C89D-4079-93FA-14378E6E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A8A-33AA-4DFD-BBC4-0D3992A57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5B1-5B9D-4E9E-8FC0-E2F22253C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0B53-F759-40B1-A185-8426D264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417-F459-4FC8-9A4D-9BED1702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B635-A859-41D3-89BC-63FAB9C0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FCC-5E26-4B49-A5F4-C16D76DE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554B-5546-4AEC-BAFD-ADE97F01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99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EB98-FAB0-4650-A473-C311B3050FA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143000" y="2514600"/>
            <a:ext cx="705816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French Script MT"/>
              </a:rPr>
              <a:t>The Blast Furnace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French Script MT"/>
              <a:ea typeface="French Script MT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990720" y="44197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By Chan, Sam and E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944360" y="380880"/>
            <a:ext cx="510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uhaus 93"/>
              </a:rPr>
              <a:t>What is a Blast Furn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457200" y="1219320"/>
            <a:ext cx="3809880" cy="52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purpose of a blast furnace is to reduce and convert iron oxides into liquid iron called "hot metal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The blast furnace is a huge, steel stack lined with refractory b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</a:rPr>
              <a:t>Iron ore, coke and limestone are put into the top, and preheated air is blown into the bott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blast_furnace"/>
          <p:cNvPicPr/>
          <p:nvPr/>
        </p:nvPicPr>
        <p:blipFill>
          <a:blip r:embed="rId1"/>
          <a:stretch/>
        </p:blipFill>
        <p:spPr>
          <a:xfrm>
            <a:off x="4648320" y="1295280"/>
            <a:ext cx="426708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62120" y="1143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Why does Iron have to be extracted in a Blast Furnace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609480" y="2819520"/>
            <a:ext cx="81536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Iron can be extracted by the blast furnace because it can be displaced by carb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Kristen ITC"/>
              </a:rPr>
              <a:t>This is more efficient method than electrolysis because it is more cost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3"/>
          <p:cNvSpPr/>
          <p:nvPr/>
        </p:nvSpPr>
        <p:spPr>
          <a:xfrm>
            <a:off x="2300400" y="141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6680" y="495360"/>
            <a:ext cx="693432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04920" y="1523880"/>
            <a:ext cx="8534160" cy="49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ree substances are needed to enable to extraction of iron from its ore. The combined mixture is called the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Arial Unicode MS"/>
              </a:rPr>
              <a:t>charge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Arial Unicode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Iron ore, haematit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- often contains sand with iron oxide,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Limeston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(calcium carbona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Cok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 - mainly carbo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The charge is placed a giant chimney called a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blast</a:t>
            </a:r>
            <a:r>
              <a:rPr b="1" lang="en-GB" sz="2400" spc="-1" strike="noStrike">
                <a:solidFill>
                  <a:srgbClr val="800080"/>
                </a:solidFill>
                <a:latin typeface="Kristen ITC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Kristen ITC"/>
                <a:ea typeface="Times New Roman"/>
              </a:rPr>
              <a:t>furnace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Times New Roman"/>
              </a:rPr>
              <a:t>. The blast furnace is around 30 metres high and lined with fireproof bricks. Hot air is blasted through the bottom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838080" y="38088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auhaus 93"/>
              </a:rPr>
              <a:t>The Meth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limestone"/>
          <p:cNvPicPr/>
          <p:nvPr/>
        </p:nvPicPr>
        <p:blipFill>
          <a:blip r:embed="rId1"/>
          <a:stretch/>
        </p:blipFill>
        <p:spPr>
          <a:xfrm>
            <a:off x="609480" y="228600"/>
            <a:ext cx="1600200" cy="1305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70044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coal"/>
          <p:cNvPicPr/>
          <p:nvPr/>
        </p:nvPicPr>
        <p:blipFill>
          <a:blip r:embed="rId2"/>
          <a:stretch/>
        </p:blipFill>
        <p:spPr>
          <a:xfrm>
            <a:off x="6781680" y="228600"/>
            <a:ext cx="160020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1143000" y="609480"/>
            <a:ext cx="6781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838080" y="19051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1371600"/>
            <a:ext cx="7010280" cy="59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xygen in the air reacts with coke to give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O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breaks down to form carbon di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rbon dioxide produced in 1 + 2 react with more coke to produce carbon monox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C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76320" y="1522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  <a:ea typeface="Arial Unicode MS"/>
              </a:rPr>
              <a:t>Several reactions take place before the iron is finally produced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762120" y="990720"/>
            <a:ext cx="7924680" cy="39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carbon monoxide reduces the iron in the ore to give molten ir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g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2Fe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l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3C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2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457200"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limestone from 2, reacts with the sand to form slag (calcium silica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Ca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+ 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(s)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 CaSiO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Kristen ITC"/>
                <a:ea typeface="Arial Unicode MS"/>
              </a:rPr>
              <a:t>3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533520" y="1371600"/>
            <a:ext cx="784836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Both the slag and iron are drained from the bottom of the furn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slag is mainly used to build ro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iron whilst molten is poured into moulds and left to solidify - this is called cast iron and is used to make railings and storage tan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Kristen ITC"/>
                <a:ea typeface="Arial Unicode MS"/>
              </a:rPr>
              <a:t>The rest of the iron is used to make ste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228600" y="2286000"/>
            <a:ext cx="86868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7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French Script MT"/>
              </a:rPr>
              <a:t>Thank you for watching!!!</a:t>
            </a:r>
            <a:endParaRPr b="1" lang="en-US" sz="7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French Script MT"/>
              <a:ea typeface="French Script MT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1T09:09:28Z</dcterms:created>
  <dc:creator>A User</dc:creator>
  <dc:description/>
  <dc:language>en-US</dc:language>
  <cp:lastModifiedBy>LEGION</cp:lastModifiedBy>
  <dcterms:modified xsi:type="dcterms:W3CDTF">2015-09-04T10:09:02Z</dcterms:modified>
  <cp:revision>11</cp:revision>
  <dc:subject/>
  <dc:title>The Blast Furnace</dc:title>
</cp:coreProperties>
</file>